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pct" ContentType="image/x-pict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9.pct" ContentType="image/x-pict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5CC2-5A96-49C3-9E4F-2359B1F32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7341-A8D8-4397-A0BC-3E107C78F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0E00-102C-4F70-BB9E-85A31ECE2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C6D6-D37F-492E-9185-EE24FEBAA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5455-97DA-4DD7-AA2C-57AAF7548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8A65-8469-4766-9032-2A7BC413A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A7A9-4A79-4E84-9139-C71C3CD34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74B0-49FB-40F3-81D9-D82986F4A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CEB4-AFF7-4070-8AFD-82F471D15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B809-5E74-4718-BCF3-80B4BF632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F034-634B-4A6D-BA1B-815C943F2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7838-6B46-47FA-881A-25D3C13E7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75AB-C6D9-44C2-9233-6F5C872CC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E3FC-4A57-4F46-A2DF-3380DAC30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D198-9421-43D0-85C7-AA0C4E7A0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FDA4-A354-4BC9-8AEC-2D72FAAB2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CEF2-9D73-4287-BFF3-6686BE13E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796F-9610-4F8C-A342-A429D3186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2C7A-7158-489D-931D-B222B1880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4C00-40E4-4DD8-B1EE-0B06C00EE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9CF6-F977-421F-A66E-E5A8BC1F3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27D9-05E6-4BF7-A423-D96718BC3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4813-7105-4F68-A5F2-6F7BB2CB6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79CF-1715-45A5-8BE5-6E56C07BE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13E4-1A4D-4BDE-887F-E362A264F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CF2-4388-4AB0-BBED-85BC1606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228E-DAB3-4635-ADDA-2F3270E2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329-EBCE-43FE-9195-9DBA037E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64FB-BA76-46E0-AF54-180128DE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E19B-2A3A-40DD-AABB-8659E083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00BC-5BDC-4520-9904-F8B618DE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52E1-7FD3-45D8-AC2D-7AF2B43E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2035-111F-45FB-B163-D4ADE7EA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FB66-F75C-4075-9B49-5872E3DE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C2D6-5893-46A1-9340-8DB5EB4D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7EC7-28F6-4085-8704-C1CF50F4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398-3DB8-46B7-9E72-56535B16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6A5F-F92C-4771-8F89-4CB60302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F503-579D-4BE3-A3DE-76C74055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60D2-25C2-44C1-9B19-DA5DD1A8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941F-6AC8-4608-93BD-47DFDE34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B7DF-193C-4916-B620-2949DCE4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F1D-434D-4089-A116-E5196B01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A1E-9033-4F5F-9571-4B67E1E5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B14-58C4-46F5-BAAA-4987DD15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FE8D-B130-49B5-BD8F-38D7AB81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C411-BB92-450F-9716-19CF48AC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D96-395F-462C-A834-7703F325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B947-43A8-43FF-83AD-D16B979D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65C8-A70E-4B8B-8758-9C8BB1252A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9922-DCDF-4B49-8EB0-2ABB521EC0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2847-E4F8-408F-B54D-FB5FB4378D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391160" cy="8380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mergency Market Mapping &amp; Analysi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uided Study and Pratice of the Toolk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- 30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ept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hington 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ay 1: EMMA’S RATIONALE, PURPOSE &amp;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EMMA 1"/>
          <p:cNvPicPr/>
          <p:nvPr/>
        </p:nvPicPr>
        <p:blipFill>
          <a:blip r:embed="rId1"/>
          <a:stretch/>
        </p:blipFill>
        <p:spPr>
          <a:xfrm>
            <a:off x="380880" y="2819520"/>
            <a:ext cx="2438640" cy="2266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India1"/>
          <p:cNvPicPr/>
          <p:nvPr/>
        </p:nvPicPr>
        <p:blipFill>
          <a:blip r:embed="rId2"/>
          <a:stretch/>
        </p:blipFill>
        <p:spPr>
          <a:xfrm>
            <a:off x="6019920" y="3581280"/>
            <a:ext cx="25905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BD20-B9D0-46D9-861E-B57DE4B1A9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pping the taxi vehicle mark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our groups represent “TaxiHelp”, an aid NGO that supports lives and livelihoods of the urban poor by supporting local public taxi service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a map of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axi vehic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rket system of all the market actors that enable the vehicle  to be operated effectively, providing support for the urban poor user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w all the actors in that system, and any links between th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nk about the supply chain, the infrastructure, and the rules, institutions etc that affect the marke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‘right answer’; just start and make a basic ma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 any appropriate assump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bush-taxi"/>
          <p:cNvPicPr/>
          <p:nvPr/>
        </p:nvPicPr>
        <p:blipFill>
          <a:blip r:embed="rId1"/>
          <a:stretch/>
        </p:blipFill>
        <p:spPr>
          <a:xfrm>
            <a:off x="7242120" y="4800600"/>
            <a:ext cx="19018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D592-4E91-4AA6-A685-6A0D81573B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79280" y="503280"/>
            <a:ext cx="26542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Market Environment: Institutions, Rules,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orms &amp;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179280" y="4724280"/>
            <a:ext cx="158436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Key Infrastructure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amp;  Market Support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0" y="4437000"/>
            <a:ext cx="8896320" cy="0"/>
          </a:xfrm>
          <a:prstGeom prst="line">
            <a:avLst/>
          </a:prstGeom>
          <a:ln w="1260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5"/>
          <p:cNvGrpSpPr/>
          <p:nvPr/>
        </p:nvGrpSpPr>
        <p:grpSpPr>
          <a:xfrm>
            <a:off x="179280" y="2117880"/>
            <a:ext cx="8931240" cy="303120"/>
            <a:chOff x="179280" y="2117880"/>
            <a:chExt cx="8931240" cy="303120"/>
          </a:xfrm>
        </p:grpSpPr>
        <p:sp>
          <p:nvSpPr>
            <p:cNvPr id="140" name="Line 6"/>
            <p:cNvSpPr/>
            <p:nvPr/>
          </p:nvSpPr>
          <p:spPr>
            <a:xfrm>
              <a:off x="179280" y="2276640"/>
              <a:ext cx="893124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44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4"/>
            <p:cNvSpPr/>
            <p:nvPr/>
          </p:nvSpPr>
          <p:spPr>
            <a:xfrm>
              <a:off x="1800360" y="2117880"/>
              <a:ext cx="493560" cy="30132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3187800" y="2117880"/>
              <a:ext cx="493560" cy="30132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4"/>
            <p:cNvSpPr/>
            <p:nvPr/>
          </p:nvSpPr>
          <p:spPr>
            <a:xfrm>
              <a:off x="4576680" y="2119320"/>
              <a:ext cx="493920" cy="30168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"/>
            <p:cNvSpPr/>
            <p:nvPr/>
          </p:nvSpPr>
          <p:spPr>
            <a:xfrm>
              <a:off x="5965920" y="2119320"/>
              <a:ext cx="493560" cy="30168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4"/>
            <p:cNvSpPr/>
            <p:nvPr/>
          </p:nvSpPr>
          <p:spPr>
            <a:xfrm>
              <a:off x="7354800" y="2119320"/>
              <a:ext cx="493920" cy="30168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8"/>
          <p:cNvSpPr/>
          <p:nvPr/>
        </p:nvSpPr>
        <p:spPr>
          <a:xfrm>
            <a:off x="179280" y="2468520"/>
            <a:ext cx="25178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Market Chain: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rket Actors &amp; Their Lin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5076720" y="3213000"/>
            <a:ext cx="863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627280" y="3429000"/>
            <a:ext cx="1152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hicle Leasing 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611280" y="3213000"/>
            <a:ext cx="1296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hicle Im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7164360" y="2757600"/>
            <a:ext cx="1152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7164360" y="3549600"/>
            <a:ext cx="1152720" cy="520200"/>
          </a:xfrm>
          <a:prstGeom prst="rect">
            <a:avLst/>
          </a:prstGeom>
          <a:solidFill>
            <a:srgbClr val="b9b9e7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rban Poor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AutoShape 18"/>
          <p:cNvCxnSpPr>
            <a:stCxn id="153" idx="3"/>
            <a:endCxn id="147" idx="2"/>
          </p:cNvCxnSpPr>
          <p:nvPr/>
        </p:nvCxnSpPr>
        <p:spPr>
          <a:xfrm flipH="1" flipV="1">
            <a:off x="5508720" y="3739320"/>
            <a:ext cx="1227240" cy="105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54" name="AutoShape 19"/>
          <p:cNvCxnSpPr>
            <a:stCxn id="155" idx="3"/>
            <a:endCxn id="147" idx="2"/>
          </p:cNvCxnSpPr>
          <p:nvPr/>
        </p:nvCxnSpPr>
        <p:spPr>
          <a:xfrm flipH="1" flipV="1">
            <a:off x="5508360" y="3739680"/>
            <a:ext cx="435600" cy="170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56" name="AutoShape 20"/>
          <p:cNvCxnSpPr>
            <a:stCxn id="157" idx="3"/>
            <a:endCxn id="147" idx="2"/>
          </p:cNvCxnSpPr>
          <p:nvPr/>
        </p:nvCxnSpPr>
        <p:spPr>
          <a:xfrm flipV="1">
            <a:off x="5087520" y="3739320"/>
            <a:ext cx="421560" cy="11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58" name="AutoShape 21"/>
          <p:cNvCxnSpPr>
            <a:stCxn id="159" idx="3"/>
            <a:endCxn id="148" idx="2"/>
          </p:cNvCxnSpPr>
          <p:nvPr/>
        </p:nvCxnSpPr>
        <p:spPr>
          <a:xfrm flipV="1">
            <a:off x="3084120" y="3955320"/>
            <a:ext cx="11988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60" name="AutoShape 22"/>
          <p:cNvCxnSpPr>
            <a:stCxn id="161" idx="3"/>
            <a:endCxn id="148" idx="2"/>
          </p:cNvCxnSpPr>
          <p:nvPr/>
        </p:nvCxnSpPr>
        <p:spPr>
          <a:xfrm flipV="1">
            <a:off x="1978200" y="3955680"/>
            <a:ext cx="1226160" cy="141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62" name="AutoShape 23"/>
          <p:cNvCxnSpPr>
            <a:stCxn id="161" idx="3"/>
            <a:endCxn id="149" idx="2"/>
          </p:cNvCxnSpPr>
          <p:nvPr/>
        </p:nvCxnSpPr>
        <p:spPr>
          <a:xfrm flipH="1" flipV="1">
            <a:off x="1260000" y="3739680"/>
            <a:ext cx="718560" cy="163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63" name="AutoShape 24"/>
          <p:cNvCxnSpPr>
            <a:stCxn id="149" idx="3"/>
            <a:endCxn id="148" idx="1"/>
          </p:cNvCxnSpPr>
          <p:nvPr/>
        </p:nvCxnSpPr>
        <p:spPr>
          <a:xfrm>
            <a:off x="1908000" y="3476520"/>
            <a:ext cx="720000" cy="21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AutoShape 25"/>
          <p:cNvCxnSpPr>
            <a:stCxn id="147" idx="3"/>
            <a:endCxn id="151" idx="1"/>
          </p:cNvCxnSpPr>
          <p:nvPr/>
        </p:nvCxnSpPr>
        <p:spPr>
          <a:xfrm>
            <a:off x="5940360" y="3476160"/>
            <a:ext cx="1224720" cy="335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5" name="AutoShape 26"/>
          <p:cNvCxnSpPr>
            <a:stCxn id="147" idx="3"/>
            <a:endCxn id="150" idx="1"/>
          </p:cNvCxnSpPr>
          <p:nvPr/>
        </p:nvCxnSpPr>
        <p:spPr>
          <a:xfrm flipV="1">
            <a:off x="5940360" y="3020400"/>
            <a:ext cx="1224720" cy="456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6" name="AutoShape 27"/>
          <p:cNvCxnSpPr>
            <a:stCxn id="167" idx="3"/>
            <a:endCxn id="151" idx="2"/>
          </p:cNvCxnSpPr>
          <p:nvPr/>
        </p:nvCxnSpPr>
        <p:spPr>
          <a:xfrm flipH="1" flipV="1">
            <a:off x="7740000" y="4073040"/>
            <a:ext cx="570600" cy="125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68" name="AutoShape 28"/>
          <p:cNvCxnSpPr>
            <a:stCxn id="159" idx="3"/>
            <a:endCxn id="147" idx="2"/>
          </p:cNvCxnSpPr>
          <p:nvPr/>
        </p:nvCxnSpPr>
        <p:spPr>
          <a:xfrm flipV="1">
            <a:off x="3084480" y="3739320"/>
            <a:ext cx="2424960" cy="105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69" name="AutoShape 29"/>
          <p:cNvCxnSpPr>
            <a:stCxn id="148" idx="3"/>
            <a:endCxn id="147" idx="1"/>
          </p:cNvCxnSpPr>
          <p:nvPr/>
        </p:nvCxnSpPr>
        <p:spPr>
          <a:xfrm flipV="1">
            <a:off x="3780000" y="3476160"/>
            <a:ext cx="129744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1" name="AutoShape 30"/>
          <p:cNvSpPr/>
          <p:nvPr/>
        </p:nvSpPr>
        <p:spPr>
          <a:xfrm>
            <a:off x="1547640" y="537768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nancial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1"/>
          <p:cNvSpPr/>
          <p:nvPr/>
        </p:nvSpPr>
        <p:spPr>
          <a:xfrm>
            <a:off x="2627280" y="4673160"/>
            <a:ext cx="914400" cy="76932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urance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2"/>
          <p:cNvSpPr/>
          <p:nvPr/>
        </p:nvSpPr>
        <p:spPr>
          <a:xfrm>
            <a:off x="4594320" y="4872600"/>
            <a:ext cx="98568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age Mechan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3"/>
          <p:cNvSpPr/>
          <p:nvPr/>
        </p:nvSpPr>
        <p:spPr>
          <a:xfrm>
            <a:off x="5513400" y="544896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lling S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4"/>
          <p:cNvSpPr/>
          <p:nvPr/>
        </p:nvSpPr>
        <p:spPr>
          <a:xfrm>
            <a:off x="7451640" y="524556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h AT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6305400" y="480132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 &amp; Brid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6"/>
          <p:cNvSpPr/>
          <p:nvPr/>
        </p:nvSpPr>
        <p:spPr>
          <a:xfrm>
            <a:off x="3975120" y="917280"/>
            <a:ext cx="79524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Licens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7"/>
          <p:cNvSpPr/>
          <p:nvPr/>
        </p:nvSpPr>
        <p:spPr>
          <a:xfrm>
            <a:off x="1763640" y="1035000"/>
            <a:ext cx="1057320" cy="472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nancial Reg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8"/>
          <p:cNvSpPr/>
          <p:nvPr/>
        </p:nvSpPr>
        <p:spPr>
          <a:xfrm>
            <a:off x="2965320" y="1432080"/>
            <a:ext cx="865440" cy="472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asing La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9"/>
          <p:cNvSpPr/>
          <p:nvPr/>
        </p:nvSpPr>
        <p:spPr>
          <a:xfrm>
            <a:off x="5854680" y="917280"/>
            <a:ext cx="79236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ffic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s. &amp;  Poli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0"/>
          <p:cNvSpPr/>
          <p:nvPr/>
        </p:nvSpPr>
        <p:spPr>
          <a:xfrm>
            <a:off x="6791400" y="1314000"/>
            <a:ext cx="87480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any Expenses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1"/>
          <p:cNvSpPr/>
          <p:nvPr/>
        </p:nvSpPr>
        <p:spPr>
          <a:xfrm>
            <a:off x="900000" y="1432080"/>
            <a:ext cx="719280" cy="472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ort Tarif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2"/>
          <p:cNvSpPr/>
          <p:nvPr/>
        </p:nvSpPr>
        <p:spPr>
          <a:xfrm>
            <a:off x="7812000" y="917280"/>
            <a:ext cx="87480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Transport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3"/>
          <p:cNvSpPr/>
          <p:nvPr/>
        </p:nvSpPr>
        <p:spPr>
          <a:xfrm>
            <a:off x="4915080" y="1314000"/>
            <a:ext cx="79524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Drivers’ U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508120" y="6862680"/>
          <a:ext cx="52416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8120" y="6862680"/>
                    <a:ext cx="5241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45"/>
          <p:cNvSpPr/>
          <p:nvPr/>
        </p:nvSpPr>
        <p:spPr>
          <a:xfrm>
            <a:off x="2843280" y="26028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et-system for Taxi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6"/>
          <p:cNvSpPr/>
          <p:nvPr/>
        </p:nvSpPr>
        <p:spPr>
          <a:xfrm>
            <a:off x="3514680" y="5377680"/>
            <a:ext cx="98604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iver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AutoShape 47"/>
          <p:cNvCxnSpPr>
            <a:stCxn id="181" idx="3"/>
            <a:endCxn id="147" idx="2"/>
          </p:cNvCxnSpPr>
          <p:nvPr/>
        </p:nvCxnSpPr>
        <p:spPr>
          <a:xfrm flipV="1">
            <a:off x="4008240" y="3739680"/>
            <a:ext cx="1500840" cy="163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sp>
        <p:nvSpPr>
          <p:cNvPr id="183" name="Text Box 48"/>
          <p:cNvSpPr/>
          <p:nvPr/>
        </p:nvSpPr>
        <p:spPr>
          <a:xfrm>
            <a:off x="3924360" y="2637000"/>
            <a:ext cx="647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AutoShape 49"/>
          <p:cNvCxnSpPr>
            <a:stCxn id="148" idx="0"/>
            <a:endCxn id="183" idx="1"/>
          </p:cNvCxnSpPr>
          <p:nvPr/>
        </p:nvCxnSpPr>
        <p:spPr>
          <a:xfrm flipV="1">
            <a:off x="3203640" y="2900160"/>
            <a:ext cx="721440" cy="529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AutoShape 50"/>
          <p:cNvCxnSpPr>
            <a:stCxn id="183" idx="3"/>
            <a:endCxn id="147" idx="1"/>
          </p:cNvCxnSpPr>
          <p:nvPr/>
        </p:nvCxnSpPr>
        <p:spPr>
          <a:xfrm>
            <a:off x="4572000" y="2900520"/>
            <a:ext cx="505440" cy="576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AutoShape 51"/>
          <p:cNvCxnSpPr>
            <a:stCxn id="149" idx="3"/>
            <a:endCxn id="183" idx="1"/>
          </p:cNvCxnSpPr>
          <p:nvPr/>
        </p:nvCxnSpPr>
        <p:spPr>
          <a:xfrm flipV="1">
            <a:off x="1907640" y="2900520"/>
            <a:ext cx="2017080" cy="57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410A-B425-4699-9C82-3F0E239F6B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179280" y="503280"/>
            <a:ext cx="26542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Market Environment: Institutions, Rules,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orms &amp;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179280" y="4724280"/>
            <a:ext cx="158436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Key Infrastructure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amp;  Market Support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0" y="4437000"/>
            <a:ext cx="8896320" cy="0"/>
          </a:xfrm>
          <a:prstGeom prst="line">
            <a:avLst/>
          </a:prstGeom>
          <a:ln w="1260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179280" y="2117880"/>
            <a:ext cx="8931240" cy="303120"/>
            <a:chOff x="179280" y="2117880"/>
            <a:chExt cx="8931240" cy="303120"/>
          </a:xfrm>
        </p:grpSpPr>
        <p:sp>
          <p:nvSpPr>
            <p:cNvPr id="193" name="Line 6"/>
            <p:cNvSpPr/>
            <p:nvPr/>
          </p:nvSpPr>
          <p:spPr>
            <a:xfrm>
              <a:off x="179280" y="2276640"/>
              <a:ext cx="893124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44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4"/>
            <p:cNvSpPr/>
            <p:nvPr/>
          </p:nvSpPr>
          <p:spPr>
            <a:xfrm>
              <a:off x="1800360" y="2117880"/>
              <a:ext cx="493560" cy="30132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4"/>
            <p:cNvSpPr/>
            <p:nvPr/>
          </p:nvSpPr>
          <p:spPr>
            <a:xfrm>
              <a:off x="3187800" y="2117880"/>
              <a:ext cx="493560" cy="30132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4"/>
            <p:cNvSpPr/>
            <p:nvPr/>
          </p:nvSpPr>
          <p:spPr>
            <a:xfrm>
              <a:off x="4576680" y="2119320"/>
              <a:ext cx="493920" cy="30168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4"/>
            <p:cNvSpPr/>
            <p:nvPr/>
          </p:nvSpPr>
          <p:spPr>
            <a:xfrm>
              <a:off x="5965920" y="2119320"/>
              <a:ext cx="493560" cy="30168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4"/>
            <p:cNvSpPr/>
            <p:nvPr/>
          </p:nvSpPr>
          <p:spPr>
            <a:xfrm>
              <a:off x="7354800" y="2119320"/>
              <a:ext cx="493920" cy="30168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179280" y="2468520"/>
            <a:ext cx="25178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Market Chain: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rket Actors &amp; Their Lin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5076720" y="3213000"/>
            <a:ext cx="863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2627280" y="3429000"/>
            <a:ext cx="1152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hicle Leasing 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611280" y="3213000"/>
            <a:ext cx="1296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hicle Im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7164360" y="2757600"/>
            <a:ext cx="1152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7164360" y="3549600"/>
            <a:ext cx="1152720" cy="520200"/>
          </a:xfrm>
          <a:prstGeom prst="rect">
            <a:avLst/>
          </a:prstGeom>
          <a:solidFill>
            <a:srgbClr val="b9b9e7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rban Poor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AutoShape 18"/>
          <p:cNvCxnSpPr>
            <a:stCxn id="206" idx="3"/>
            <a:endCxn id="200" idx="2"/>
          </p:cNvCxnSpPr>
          <p:nvPr/>
        </p:nvCxnSpPr>
        <p:spPr>
          <a:xfrm flipH="1" flipV="1">
            <a:off x="5508720" y="3739320"/>
            <a:ext cx="1227240" cy="105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07" name="AutoShape 19"/>
          <p:cNvCxnSpPr>
            <a:stCxn id="208" idx="3"/>
            <a:endCxn id="200" idx="2"/>
          </p:cNvCxnSpPr>
          <p:nvPr/>
        </p:nvCxnSpPr>
        <p:spPr>
          <a:xfrm flipH="1" flipV="1">
            <a:off x="5508360" y="3739680"/>
            <a:ext cx="435600" cy="170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09" name="AutoShape 20"/>
          <p:cNvCxnSpPr>
            <a:stCxn id="210" idx="3"/>
            <a:endCxn id="200" idx="2"/>
          </p:cNvCxnSpPr>
          <p:nvPr/>
        </p:nvCxnSpPr>
        <p:spPr>
          <a:xfrm flipV="1">
            <a:off x="5087520" y="3739320"/>
            <a:ext cx="421560" cy="11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11" name="AutoShape 21"/>
          <p:cNvCxnSpPr>
            <a:stCxn id="212" idx="3"/>
            <a:endCxn id="201" idx="2"/>
          </p:cNvCxnSpPr>
          <p:nvPr/>
        </p:nvCxnSpPr>
        <p:spPr>
          <a:xfrm flipV="1">
            <a:off x="3084120" y="3955320"/>
            <a:ext cx="11988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13" name="AutoShape 22"/>
          <p:cNvCxnSpPr>
            <a:stCxn id="214" idx="3"/>
            <a:endCxn id="201" idx="2"/>
          </p:cNvCxnSpPr>
          <p:nvPr/>
        </p:nvCxnSpPr>
        <p:spPr>
          <a:xfrm flipV="1">
            <a:off x="1978200" y="3955680"/>
            <a:ext cx="1226160" cy="141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15" name="AutoShape 23"/>
          <p:cNvCxnSpPr>
            <a:stCxn id="214" idx="3"/>
            <a:endCxn id="202" idx="2"/>
          </p:cNvCxnSpPr>
          <p:nvPr/>
        </p:nvCxnSpPr>
        <p:spPr>
          <a:xfrm flipH="1" flipV="1">
            <a:off x="1260000" y="3739680"/>
            <a:ext cx="718560" cy="163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16" name="AutoShape 24"/>
          <p:cNvCxnSpPr>
            <a:stCxn id="202" idx="3"/>
            <a:endCxn id="201" idx="1"/>
          </p:cNvCxnSpPr>
          <p:nvPr/>
        </p:nvCxnSpPr>
        <p:spPr>
          <a:xfrm>
            <a:off x="1908000" y="3476520"/>
            <a:ext cx="720000" cy="21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25"/>
          <p:cNvCxnSpPr>
            <a:stCxn id="200" idx="3"/>
            <a:endCxn id="204" idx="1"/>
          </p:cNvCxnSpPr>
          <p:nvPr/>
        </p:nvCxnSpPr>
        <p:spPr>
          <a:xfrm>
            <a:off x="5940360" y="3476160"/>
            <a:ext cx="1224720" cy="335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8" name="AutoShape 26"/>
          <p:cNvCxnSpPr>
            <a:stCxn id="200" idx="3"/>
            <a:endCxn id="203" idx="1"/>
          </p:cNvCxnSpPr>
          <p:nvPr/>
        </p:nvCxnSpPr>
        <p:spPr>
          <a:xfrm flipV="1">
            <a:off x="5940360" y="3020400"/>
            <a:ext cx="1224720" cy="456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9" name="AutoShape 27"/>
          <p:cNvCxnSpPr>
            <a:stCxn id="220" idx="3"/>
            <a:endCxn id="204" idx="2"/>
          </p:cNvCxnSpPr>
          <p:nvPr/>
        </p:nvCxnSpPr>
        <p:spPr>
          <a:xfrm flipH="1" flipV="1">
            <a:off x="7740000" y="4073040"/>
            <a:ext cx="570600" cy="125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21" name="AutoShape 28"/>
          <p:cNvCxnSpPr>
            <a:stCxn id="212" idx="3"/>
            <a:endCxn id="200" idx="2"/>
          </p:cNvCxnSpPr>
          <p:nvPr/>
        </p:nvCxnSpPr>
        <p:spPr>
          <a:xfrm flipV="1">
            <a:off x="3084480" y="3739320"/>
            <a:ext cx="2424960" cy="105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22" name="AutoShape 29"/>
          <p:cNvCxnSpPr>
            <a:stCxn id="201" idx="3"/>
            <a:endCxn id="200" idx="1"/>
          </p:cNvCxnSpPr>
          <p:nvPr/>
        </p:nvCxnSpPr>
        <p:spPr>
          <a:xfrm flipV="1">
            <a:off x="3780000" y="3476160"/>
            <a:ext cx="129744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14" name="AutoShape 30"/>
          <p:cNvSpPr/>
          <p:nvPr/>
        </p:nvSpPr>
        <p:spPr>
          <a:xfrm>
            <a:off x="1547640" y="537768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nancial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1"/>
          <p:cNvSpPr/>
          <p:nvPr/>
        </p:nvSpPr>
        <p:spPr>
          <a:xfrm>
            <a:off x="2627280" y="4673160"/>
            <a:ext cx="914400" cy="76932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urance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2"/>
          <p:cNvSpPr/>
          <p:nvPr/>
        </p:nvSpPr>
        <p:spPr>
          <a:xfrm>
            <a:off x="4594320" y="4872600"/>
            <a:ext cx="98568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age Mechan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3"/>
          <p:cNvSpPr/>
          <p:nvPr/>
        </p:nvSpPr>
        <p:spPr>
          <a:xfrm>
            <a:off x="5513400" y="544896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lling S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4"/>
          <p:cNvSpPr/>
          <p:nvPr/>
        </p:nvSpPr>
        <p:spPr>
          <a:xfrm>
            <a:off x="7451640" y="524556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h AT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5"/>
          <p:cNvSpPr/>
          <p:nvPr/>
        </p:nvSpPr>
        <p:spPr>
          <a:xfrm>
            <a:off x="6305400" y="480132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 &amp; Brid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6"/>
          <p:cNvSpPr/>
          <p:nvPr/>
        </p:nvSpPr>
        <p:spPr>
          <a:xfrm>
            <a:off x="3975120" y="917280"/>
            <a:ext cx="79524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Licens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7"/>
          <p:cNvSpPr/>
          <p:nvPr/>
        </p:nvSpPr>
        <p:spPr>
          <a:xfrm>
            <a:off x="1763640" y="1035000"/>
            <a:ext cx="1057320" cy="472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nancial Reg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8"/>
          <p:cNvSpPr/>
          <p:nvPr/>
        </p:nvSpPr>
        <p:spPr>
          <a:xfrm>
            <a:off x="2965320" y="1432080"/>
            <a:ext cx="865440" cy="472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asing La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9"/>
          <p:cNvSpPr/>
          <p:nvPr/>
        </p:nvSpPr>
        <p:spPr>
          <a:xfrm>
            <a:off x="5854680" y="917280"/>
            <a:ext cx="79236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ffic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s. &amp;  Poli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0"/>
          <p:cNvSpPr/>
          <p:nvPr/>
        </p:nvSpPr>
        <p:spPr>
          <a:xfrm>
            <a:off x="6791400" y="1314000"/>
            <a:ext cx="87480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any Expenses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1"/>
          <p:cNvSpPr/>
          <p:nvPr/>
        </p:nvSpPr>
        <p:spPr>
          <a:xfrm>
            <a:off x="900000" y="1432080"/>
            <a:ext cx="719280" cy="472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ort Tarif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42"/>
          <p:cNvSpPr/>
          <p:nvPr/>
        </p:nvSpPr>
        <p:spPr>
          <a:xfrm>
            <a:off x="7812000" y="917280"/>
            <a:ext cx="87480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Transport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3"/>
          <p:cNvSpPr/>
          <p:nvPr/>
        </p:nvSpPr>
        <p:spPr>
          <a:xfrm>
            <a:off x="4915080" y="1314000"/>
            <a:ext cx="79524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Drivers’ U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508120" y="6862680"/>
          <a:ext cx="52416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8120" y="6862680"/>
                    <a:ext cx="5241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45"/>
          <p:cNvSpPr/>
          <p:nvPr/>
        </p:nvSpPr>
        <p:spPr>
          <a:xfrm>
            <a:off x="2843280" y="26028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et-system for Taxi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6"/>
          <p:cNvSpPr/>
          <p:nvPr/>
        </p:nvSpPr>
        <p:spPr>
          <a:xfrm>
            <a:off x="3514680" y="5377680"/>
            <a:ext cx="98604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iver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AutoShape 47"/>
          <p:cNvCxnSpPr>
            <a:stCxn id="234" idx="3"/>
            <a:endCxn id="200" idx="2"/>
          </p:cNvCxnSpPr>
          <p:nvPr/>
        </p:nvCxnSpPr>
        <p:spPr>
          <a:xfrm flipV="1">
            <a:off x="4008240" y="3739680"/>
            <a:ext cx="1500840" cy="163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sp>
        <p:nvSpPr>
          <p:cNvPr id="236" name="Text Box 48"/>
          <p:cNvSpPr/>
          <p:nvPr/>
        </p:nvSpPr>
        <p:spPr>
          <a:xfrm>
            <a:off x="3924360" y="2637000"/>
            <a:ext cx="647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AutoShape 49"/>
          <p:cNvCxnSpPr>
            <a:stCxn id="201" idx="0"/>
            <a:endCxn id="236" idx="1"/>
          </p:cNvCxnSpPr>
          <p:nvPr/>
        </p:nvCxnSpPr>
        <p:spPr>
          <a:xfrm flipV="1">
            <a:off x="3203640" y="2900160"/>
            <a:ext cx="721440" cy="529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AutoShape 50"/>
          <p:cNvCxnSpPr>
            <a:stCxn id="236" idx="3"/>
            <a:endCxn id="200" idx="1"/>
          </p:cNvCxnSpPr>
          <p:nvPr/>
        </p:nvCxnSpPr>
        <p:spPr>
          <a:xfrm>
            <a:off x="4572000" y="2900520"/>
            <a:ext cx="505440" cy="576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51"/>
          <p:cNvCxnSpPr>
            <a:stCxn id="202" idx="3"/>
            <a:endCxn id="236" idx="1"/>
          </p:cNvCxnSpPr>
          <p:nvPr/>
        </p:nvCxnSpPr>
        <p:spPr>
          <a:xfrm flipV="1">
            <a:off x="1907640" y="2900520"/>
            <a:ext cx="2017080" cy="57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40" name="Line 52"/>
          <p:cNvSpPr/>
          <p:nvPr/>
        </p:nvSpPr>
        <p:spPr>
          <a:xfrm flipH="1" flipV="1">
            <a:off x="2133720" y="4800240"/>
            <a:ext cx="342720" cy="343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3"/>
          <p:cNvSpPr/>
          <p:nvPr/>
        </p:nvSpPr>
        <p:spPr>
          <a:xfrm flipV="1">
            <a:off x="1523880" y="4495320"/>
            <a:ext cx="22860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4"/>
          <p:cNvSpPr/>
          <p:nvPr/>
        </p:nvSpPr>
        <p:spPr>
          <a:xfrm flipH="1" flipV="1">
            <a:off x="3809520" y="4191120"/>
            <a:ext cx="343080" cy="34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55"/>
          <p:cNvSpPr/>
          <p:nvPr/>
        </p:nvSpPr>
        <p:spPr>
          <a:xfrm flipV="1">
            <a:off x="3886200" y="4191120"/>
            <a:ext cx="2286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6"/>
          <p:cNvSpPr/>
          <p:nvPr/>
        </p:nvSpPr>
        <p:spPr>
          <a:xfrm flipH="1" flipV="1">
            <a:off x="2971800" y="4343040"/>
            <a:ext cx="38088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7"/>
          <p:cNvSpPr/>
          <p:nvPr/>
        </p:nvSpPr>
        <p:spPr>
          <a:xfrm flipH="1" flipV="1">
            <a:off x="6400440" y="3048120"/>
            <a:ext cx="343080" cy="34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8"/>
          <p:cNvSpPr/>
          <p:nvPr/>
        </p:nvSpPr>
        <p:spPr>
          <a:xfrm flipV="1">
            <a:off x="6248520" y="3429000"/>
            <a:ext cx="2286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9"/>
          <p:cNvSpPr/>
          <p:nvPr/>
        </p:nvSpPr>
        <p:spPr>
          <a:xfrm flipH="1" flipV="1">
            <a:off x="6248520" y="3428640"/>
            <a:ext cx="342720" cy="343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0"/>
          <p:cNvSpPr/>
          <p:nvPr/>
        </p:nvSpPr>
        <p:spPr>
          <a:xfrm flipV="1">
            <a:off x="6172200" y="4191120"/>
            <a:ext cx="2286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1"/>
          <p:cNvSpPr/>
          <p:nvPr/>
        </p:nvSpPr>
        <p:spPr>
          <a:xfrm flipV="1">
            <a:off x="5562720" y="4266720"/>
            <a:ext cx="22860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490D-E6EA-4E74-ABC3-CA826464C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Essence of Emma …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DETAILED IN PRACTICE, SIMPLE IN ITS ESS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critical market syste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wider market syste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the market, use interviews, gathe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apping at the heart of E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range of humanitarian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6124-7198-4FC8-A908-43AD12E17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  …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, basic and ef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in the early stages of a dis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survival needs, as well as protection of livelihoods; more effective use of 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mand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affected community, as well as what th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wider range of innovative humanitarian recommendations with rat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11F0-E145-45CB-9C6F-E0CF27235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 Aims &amp; Objectiv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i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icipants can explain the purpose and processes of EMM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confidently adapt and apply it in appropriate circumstances to humanitarian emergencies, thereby articulating a range of effective response op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FA8B-3F4B-4D92-A649-9098625613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 Aims &amp; Objectiv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y the end of the training course, participants will be able t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dentify the benefits of using EMM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tate, explain and apply the 3 strands and 10 steps of EMMA in emergency contex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tate and use the criteria required for effective critical market system selectio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se the key tools of EMM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ollate and analyse data gathered through the use of EMMA tools, and produce suitable options for effective humanitarian response in emergencies based on that dat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xplain the value of EMMA to senior decision-mak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4AF2-087D-4BB3-A301-019B2B378B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Guided Study &amp; Practice of the Toolk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ource material is the EMMA Toolkit itself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llows participants to become familiar &amp; confident with i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will consider the core, major parts of the Toolki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nderstand it sufficiently to continue study after workshop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. then use it in the field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5931-3361-4859-8016-6808D6966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urpose of EMM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762120" y="1600200"/>
            <a:ext cx="7010280" cy="279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s are a crucial component of how people survive.  So understanding how they are functioning and disrupted is critical to any analysis of hunger, and vulnerability to food and livelihood insecurity or povert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aul Harvey, Humanitarian Policy Group, O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EMMA Market 1"/>
          <p:cNvPicPr/>
          <p:nvPr/>
        </p:nvPicPr>
        <p:blipFill>
          <a:blip r:embed="rId1"/>
          <a:stretch/>
        </p:blipFill>
        <p:spPr>
          <a:xfrm>
            <a:off x="5105520" y="4495680"/>
            <a:ext cx="27176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69FE-FE2A-43CA-8F48-46246F18F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urpose of EMM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better analysis of critical market systems - enables broader range of respons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survival and protects livelihood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use of existing market actors’ capabiliti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efficient use of humanitarian resour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s transition to economic recover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risk of dependenc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pragmatic response to typical human resource and information constraints in sudden-onset emerg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95A7-6984-41BC-9C9A-CEC517AF63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roduc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ergency Market Mapping an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EMMA 2"/>
          <p:cNvPicPr/>
          <p:nvPr/>
        </p:nvPicPr>
        <p:blipFill>
          <a:blip r:embed="rId1"/>
          <a:stretch/>
        </p:blipFill>
        <p:spPr>
          <a:xfrm>
            <a:off x="2743200" y="3429000"/>
            <a:ext cx="36320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7D42-BF02-4F06-A696-92AE2B9D7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urpose of EMM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MA tools are rough and ready, speed-orien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decisions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r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ponse opti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ment of complement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ir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ti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al ignorance” &amp; “appropriate imprecision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ve: revise, refine, “good enough”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E5A2-D00E-4FB6-803B-FB4DFCA54B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MMA &amp; Market System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762120" y="1219320"/>
          <a:ext cx="7619760" cy="510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761976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 &amp; Market System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137160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levels of the ma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infrastructure, services &amp; in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s – key tool: comparisons possible using BASELINE and EMERGENCY-AFFECTED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map per critical marke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BAB8-8BFC-4E6D-A549-21C21528F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06CA-2B71-41BE-93A2-7497044197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he 3 Strands of EMMA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96" name="Picture 13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962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3 Strands of EMM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p = People; priority needs and preferences of most affecte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= Market system; constraints and capabiliti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e = Emergency response; different options and opportun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B79A-DEF6-4445-BA56-73897D2FA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1E7A-27C3-4AF8-AA82-F093B1368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he 10 Steps of EMMA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04" name="TextBox 6" descr=""/>
          <p:cNvPicPr/>
          <p:nvPr/>
        </p:nvPicPr>
        <p:blipFill>
          <a:blip r:embed="rId1"/>
          <a:stretch/>
        </p:blipFill>
        <p:spPr>
          <a:xfrm>
            <a:off x="133200" y="74304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05" name="TextBox 7" descr=""/>
          <p:cNvPicPr/>
          <p:nvPr/>
        </p:nvPicPr>
        <p:blipFill>
          <a:blip r:embed="rId2"/>
          <a:stretch/>
        </p:blipFill>
        <p:spPr>
          <a:xfrm>
            <a:off x="438120" y="135252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06" name="TextBox 8" descr=""/>
          <p:cNvPicPr/>
          <p:nvPr/>
        </p:nvPicPr>
        <p:blipFill>
          <a:blip r:embed="rId3"/>
          <a:stretch/>
        </p:blipFill>
        <p:spPr>
          <a:xfrm>
            <a:off x="895320" y="196200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07" name="TextBox 9" descr=""/>
          <p:cNvPicPr/>
          <p:nvPr/>
        </p:nvPicPr>
        <p:blipFill>
          <a:blip r:embed="rId4"/>
          <a:stretch/>
        </p:blipFill>
        <p:spPr>
          <a:xfrm>
            <a:off x="1200240" y="257184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08" name="TextBox 10" descr=""/>
          <p:cNvPicPr/>
          <p:nvPr/>
        </p:nvPicPr>
        <p:blipFill>
          <a:blip r:embed="rId5"/>
          <a:stretch/>
        </p:blipFill>
        <p:spPr>
          <a:xfrm>
            <a:off x="1504800" y="318132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09" name="TextBox 11" descr=""/>
          <p:cNvPicPr/>
          <p:nvPr/>
        </p:nvPicPr>
        <p:blipFill>
          <a:blip r:embed="rId6"/>
          <a:stretch/>
        </p:blipFill>
        <p:spPr>
          <a:xfrm>
            <a:off x="1809720" y="379080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10" name="TextBox 12" descr=""/>
          <p:cNvPicPr/>
          <p:nvPr/>
        </p:nvPicPr>
        <p:blipFill>
          <a:blip r:embed="rId7"/>
          <a:stretch/>
        </p:blipFill>
        <p:spPr>
          <a:xfrm>
            <a:off x="2189160" y="440064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11" name="TextBox 13" descr=""/>
          <p:cNvPicPr/>
          <p:nvPr/>
        </p:nvPicPr>
        <p:blipFill>
          <a:blip r:embed="rId8"/>
          <a:stretch/>
        </p:blipFill>
        <p:spPr>
          <a:xfrm>
            <a:off x="2494080" y="501012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12" name="TextBox 14" descr=""/>
          <p:cNvPicPr/>
          <p:nvPr/>
        </p:nvPicPr>
        <p:blipFill>
          <a:blip r:embed="rId9"/>
          <a:stretch/>
        </p:blipFill>
        <p:spPr>
          <a:xfrm>
            <a:off x="2951280" y="561960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13" name="TextBox 15" descr=""/>
          <p:cNvPicPr/>
          <p:nvPr/>
        </p:nvPicPr>
        <p:blipFill>
          <a:blip r:embed="rId10"/>
          <a:stretch/>
        </p:blipFill>
        <p:spPr>
          <a:xfrm>
            <a:off x="3408480" y="6303960"/>
            <a:ext cx="51451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10 Steps of EMM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equence of EMMA activiti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ve process – steps may be returned to, overlap, as revision continu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s till ‘good enough’ picture is achie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ooter Placeholder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7E35-CFAF-437B-9315-F363420B5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5022-A6E4-4A57-9A09-A0A0C21C64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roduc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ergency Market Mapping and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ganis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ir role withi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ir Quirk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 of transport they used to get to Washington, or (if they live in the city) to this ve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B2A0-32AF-43AF-A3D3-BE2AE96EA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axi Mark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7" name="Picture 4" descr="taxi-jun03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09C3-61A9-4951-BC21-DE87DDB598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axi Mark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1" name="Picture 4" descr="bush-taxi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D7DC-49BF-48ED-B049-1A9A9630F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axi Mark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5" name="Picture 4" descr="504_taxi"/>
          <p:cNvPicPr/>
          <p:nvPr/>
        </p:nvPicPr>
        <p:blipFill>
          <a:blip r:embed="rId1"/>
          <a:stretch/>
        </p:blipFill>
        <p:spPr>
          <a:xfrm>
            <a:off x="2362320" y="1219320"/>
            <a:ext cx="4343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91C3-D1E3-40BB-81AA-AAAE9F3ABA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axi Mark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9" name="Picture 4" descr="picture"/>
          <p:cNvPicPr/>
          <p:nvPr/>
        </p:nvPicPr>
        <p:blipFill>
          <a:blip r:embed="rId1"/>
          <a:stretch/>
        </p:blipFill>
        <p:spPr>
          <a:xfrm>
            <a:off x="1447920" y="1219320"/>
            <a:ext cx="6095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6D9E-3560-4E73-8314-4A4E565576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axi Mark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3" name="Picture 4" descr="taxi926big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9722-07CD-45DA-B971-377490CF5A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axi Vehicle Mark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does the vehicle come from; who else is concerned with i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RKET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t does the vehicle and its operator need to operate effectivel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INFRASTRUCTURE, SERVICES, INPU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t laws, rules etc govern his 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TITUTIONS, RULES, NORMS, TR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picture"/>
          <p:cNvPicPr/>
          <p:nvPr/>
        </p:nvPicPr>
        <p:blipFill>
          <a:blip r:embed="rId1"/>
          <a:stretch/>
        </p:blipFill>
        <p:spPr>
          <a:xfrm>
            <a:off x="7467480" y="152280"/>
            <a:ext cx="15541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09:00:47Z</dcterms:created>
  <dc:creator>Tony Dines</dc:creator>
  <dc:description/>
  <dc:language>en-US</dc:language>
  <cp:lastModifiedBy>Tony Dines</cp:lastModifiedBy>
  <dcterms:modified xsi:type="dcterms:W3CDTF">2009-09-14T16:14:16Z</dcterms:modified>
  <cp:revision>41</cp:revision>
  <dc:subject/>
  <dc:title>PowerPoint Presentation</dc:title>
</cp:coreProperties>
</file>